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9.png" ContentType="image/png"/>
  <Override PartName="/ppt/media/image29.png" ContentType="image/png"/>
  <Override PartName="/ppt/media/image31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30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35.png" ContentType="image/png"/>
  <Override PartName="/ppt/media/image14.png" ContentType="image/png"/>
  <Override PartName="/ppt/media/image15.png" ContentType="image/png"/>
  <Override PartName="/ppt/media/image16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B9D32-5D34-46D1-9AF8-BC62BF2F7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78071-0F13-47E5-81B1-0E48BBB83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66FCA-119C-471D-91DF-C56D59CBB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652C3-E5EB-45FE-A85D-6A898FC53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F29C17-35D9-450B-9432-42F140C28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0C3D9B-5DA7-4390-B621-7386B26A3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B6EE15-EF5E-42E9-9630-1DDA3E654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F5EFB8-8389-4EB7-8072-0AA74D7A2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A999AD-6D18-4D2E-BC53-1BD6F5F37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59EED6-C68D-4B37-A7E6-6B147A3CA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D94B97-2297-4AE0-9DA9-95C5FEED3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BA9ED-7DC4-4BE1-A230-02F40AF94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D13BBF-E9F8-4068-8C9C-65D7AABEC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96D067-8BF9-45AB-B59F-7392FEC5B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48D119-9A06-408D-8038-3577E6B11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6EB3FB-6466-4C04-9EBC-925804633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AE83DD-6240-48DB-8030-45F739E69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04FB38-EB32-4A83-8FC6-2FE76B015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958AD1-9990-45E1-A882-6D6765252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6F7A06-D2EA-4B0E-B01A-54C04AF05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D1FFAD-B7D7-4009-9735-F26BA8C76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58387F-B88E-40DF-AACF-22007AD4F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51656-EA65-4086-B419-0FC3AC9BE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302292-868D-45CB-BFA3-3874E893C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BF1C0A-7C18-4AB7-AAC1-2696A996A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6260D4-656B-4ACF-990E-74700DA64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738A2D-06F0-42E2-A3DC-23E7422C0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0E813C-0D81-4EC9-89DF-011645CD2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A4C5FB-69C9-4776-B652-FF31B403B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D08CF9-D36C-41E8-AC46-43D8C5137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04696E7-04C9-4687-B514-91807D86C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591F099-C79F-4BBB-861A-D0822FF33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7AA060A-83A1-4EA5-A52A-F37C1EB20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89AE0-4364-4669-BFF3-2A3DC919E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A3C607D-8A47-454C-A823-C6CAC012B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B7E3889-0D91-4C99-B95D-56AE8ADF0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8E136A8-355B-4C1D-BE7C-175B1B657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8100688-1E9C-407B-9982-4C36338EE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D70329D-670E-4D32-8D30-8AD0AD1C9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7215A5B-ED2B-4959-BF7C-F446FF24D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278BFDC-41AA-489A-924C-52D8C8161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F010229-83D2-4A0C-950A-06CD342BA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BFA5A6B-DCE1-43FB-B878-D0F866217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2B493B6-A549-4D27-A5E8-6CD775E78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248F1-AAA5-43CD-94BB-7B12C9DE8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E11166C-8CE9-4011-AC85-8DD921DB8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BB30FBD-D1FA-4A78-8BC4-379651DDF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4D7F96E-4469-4923-ACE1-A8320EAB3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421C2A1-AD7A-4D50-9430-F3E7AE34C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6B74AD3-6322-44D2-B8A8-A02F63CDA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2566800-BF68-4A88-A2F4-A2CCA8F67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1654324-F5DC-4381-A879-F8D526AD6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B3747F6-2891-4193-BC52-7D32EE9C7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D5C8B36-8867-4FF1-B1D1-2CDEFD92D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5E9E87D-0001-4371-9D10-B2A5D1580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F49C3-12CA-4AF6-B0C7-B6E78A8D2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E53CF50-05A8-431D-A090-A0E72F5C5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BB54D39-07B9-486B-95B2-F3C7FF411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FE97E4E-A7AB-4390-8773-53F930E3F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051EDF8-DEBD-4C68-89B2-421EA0676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39673C3-4E94-4A15-8FA1-EFB301E5D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DB681A5-0D19-4887-84E7-2A0615BD3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F21CBB0-A141-42D3-8C7C-889250B7F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3BB4F65-0131-4480-9ECE-472E9E8F3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F9C99DD-7A5C-41CB-8F80-849451CA8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1A219E7-35BA-4C16-BC78-AE9281107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C57A1-419B-40AB-A489-B500B7FA2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5339081-F921-4846-BF65-1A943C462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F1F2463-C710-4078-B192-E3D08D5F1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CBE5568-14EE-4B2A-9FB0-B650EBFDC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92FF7-DE62-46DE-8C38-7B6C1D89B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6D3B4-F97E-416D-9B18-8C81A1FFB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049A3-79BA-4FCE-91FE-65CF88A50B38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Straight Connector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3" name="Oval 10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F8A25-9441-4E02-BAB6-AFE6FCC15DEB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traight Connector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158C7-B559-4D64-B1D7-82CFA3DF04F0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traight Connector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8" name="Straight Connector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B428F-28FD-4F2E-9A9B-65EB699AC93A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14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F5236-0415-479E-BE2C-4F1D156B0A92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ftr" idx="15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sldNum" idx="17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DF6B9-D907-4F25-8765-7DFB01554531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ftr" idx="1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370008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efac9"/>
                </a:solidFill>
                <a:latin typeface="Constantia"/>
              </a:rPr>
              <a:t>Warm Up – Name the 5 different types of fossils</a:t>
            </a:r>
            <a:endParaRPr b="0" lang="en-US" sz="5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53" name="Title 1" descr=""/>
          <p:cNvPicPr/>
          <p:nvPr/>
        </p:nvPicPr>
        <p:blipFill>
          <a:blip r:embed="rId1"/>
          <a:stretch/>
        </p:blipFill>
        <p:spPr>
          <a:xfrm>
            <a:off x="450720" y="1427040"/>
            <a:ext cx="8321760" cy="19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Brain pop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http://www.brainpop.com/science/earthsystem/geologictime/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74" name="Title 1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cientists use rocks and fossils to try to date events, or determine when in history events took place on earth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cientists use 3 techniques of dating: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Absolute age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Radioactive dating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Relative age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76" name="Title 1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Title 3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 txBox="1"/>
          <p:nvPr/>
        </p:nvSpPr>
        <p:spPr>
          <a:xfrm>
            <a:off x="457200" y="1523880"/>
            <a:ext cx="40593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ells the actual age of rock or fossil or how long ago an event occurred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79" name="Picture 2" descr=""/>
          <p:cNvPicPr/>
          <p:nvPr/>
        </p:nvPicPr>
        <p:blipFill>
          <a:blip r:embed="rId2"/>
          <a:stretch/>
        </p:blipFill>
        <p:spPr>
          <a:xfrm>
            <a:off x="4648320" y="1523880"/>
            <a:ext cx="36050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Title 1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 txBox="1"/>
          <p:nvPr/>
        </p:nvSpPr>
        <p:spPr>
          <a:xfrm>
            <a:off x="457200" y="1523880"/>
            <a:ext cx="40593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Is means of measuring the age of a material by comparing the amount of radioactive form of an element in a rock or fossil with the amount of its decay product.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82" name="Picture 2" descr=""/>
          <p:cNvPicPr/>
          <p:nvPr/>
        </p:nvPicPr>
        <p:blipFill>
          <a:blip r:embed="rId2"/>
          <a:stretch/>
        </p:blipFill>
        <p:spPr>
          <a:xfrm>
            <a:off x="4919760" y="2185920"/>
            <a:ext cx="3514680" cy="32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Title 1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 txBox="1"/>
          <p:nvPr/>
        </p:nvSpPr>
        <p:spPr>
          <a:xfrm>
            <a:off x="457200" y="1523880"/>
            <a:ext cx="40593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56320" indent="-25632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When absolute age is not possible scientists use relative age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Relative age describes the age of an object or event in comparison to another object or event. 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It determines which events occurred earlier or later then others without giving a definite date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85" name="Picture 2" descr=""/>
          <p:cNvPicPr/>
          <p:nvPr/>
        </p:nvPicPr>
        <p:blipFill>
          <a:blip r:embed="rId2"/>
          <a:stretch/>
        </p:blipFill>
        <p:spPr>
          <a:xfrm>
            <a:off x="4648320" y="2606760"/>
            <a:ext cx="4059000" cy="240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Brain pop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http://www.brainpop.com/science/earthsystem/geologictime/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87" name="Title 1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Title 1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  <p:sp>
        <p:nvSpPr>
          <p:cNvPr id="289" name=""/>
          <p:cNvSpPr txBox="1"/>
          <p:nvPr/>
        </p:nvSpPr>
        <p:spPr>
          <a:xfrm>
            <a:off x="457200" y="1523880"/>
            <a:ext cx="40593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tates that in undisturbed sedimentary rock layers, older layers of rock lie beneath younger rock layer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Older sediments must be laid down first before the younger ones pile on top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90" name="Picture 2" descr=""/>
          <p:cNvPicPr/>
          <p:nvPr/>
        </p:nvPicPr>
        <p:blipFill>
          <a:blip r:embed="rId2"/>
          <a:stretch/>
        </p:blipFill>
        <p:spPr>
          <a:xfrm>
            <a:off x="5500800" y="3286080"/>
            <a:ext cx="2352600" cy="10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Title 1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  <p:sp>
        <p:nvSpPr>
          <p:cNvPr id="292" name=""/>
          <p:cNvSpPr txBox="1"/>
          <p:nvPr/>
        </p:nvSpPr>
        <p:spPr>
          <a:xfrm>
            <a:off x="457200" y="1523880"/>
            <a:ext cx="40593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Plate movements can disturb rock layers by folding or turning them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Sometimes a layer can be missing one area of rock bed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The missing layer is called an unconformity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Makes it more difficult to understand how earth changed at a specific time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93" name="Picture 2" descr=""/>
          <p:cNvPicPr/>
          <p:nvPr/>
        </p:nvPicPr>
        <p:blipFill>
          <a:blip r:embed="rId2"/>
          <a:stretch/>
        </p:blipFill>
        <p:spPr>
          <a:xfrm>
            <a:off x="4689360" y="1981080"/>
            <a:ext cx="445464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Title 1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564400" cy="123192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 txBox="1"/>
          <p:nvPr/>
        </p:nvSpPr>
        <p:spPr>
          <a:xfrm>
            <a:off x="457200" y="1523880"/>
            <a:ext cx="40593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Fossils can be used to determine the geological history, or  age, of the rock that contains them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Younger fossils may be found where the original boundary was an ocean/continent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Older fossils are found in where plates collided, formed mountains, and now eroding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96" name="Picture 2" descr=""/>
          <p:cNvPicPr/>
          <p:nvPr/>
        </p:nvPicPr>
        <p:blipFill>
          <a:blip r:embed="rId2"/>
          <a:stretch/>
        </p:blipFill>
        <p:spPr>
          <a:xfrm>
            <a:off x="4648320" y="2384280"/>
            <a:ext cx="4059000" cy="28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Title 1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 txBox="1"/>
          <p:nvPr/>
        </p:nvSpPr>
        <p:spPr>
          <a:xfrm>
            <a:off x="457200" y="1523880"/>
            <a:ext cx="40593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ssil must be widely distributed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represent a type of organism that existed only briefly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useful because they tell the relative ages of the rock layers in which they occur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99" name="Picture 2" descr=""/>
          <p:cNvPicPr/>
          <p:nvPr/>
        </p:nvPicPr>
        <p:blipFill>
          <a:blip r:embed="rId2"/>
          <a:stretch/>
        </p:blipFill>
        <p:spPr>
          <a:xfrm>
            <a:off x="4800600" y="1676520"/>
            <a:ext cx="365760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Title 1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 txBox="1"/>
          <p:nvPr/>
        </p:nvSpPr>
        <p:spPr>
          <a:xfrm>
            <a:off x="457200" y="1523880"/>
            <a:ext cx="40593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70000" indent="-2700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imeline that organizes the events in Earths history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Earth is about 4.7 billion years old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More complex organism such as land plants and fish evolved only with in the last 500 million years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56" name="Picture 2" descr=""/>
          <p:cNvPicPr/>
          <p:nvPr/>
        </p:nvPicPr>
        <p:blipFill>
          <a:blip r:embed="rId2"/>
          <a:stretch/>
        </p:blipFill>
        <p:spPr>
          <a:xfrm>
            <a:off x="4782960" y="1905120"/>
            <a:ext cx="379116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Title 1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 txBox="1"/>
          <p:nvPr/>
        </p:nvSpPr>
        <p:spPr>
          <a:xfrm>
            <a:off x="457200" y="1523880"/>
            <a:ext cx="40593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67120" indent="-2671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Process which species disappear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Occur naturally over tim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Most occur following a sudden, drastic change in the environment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pecies cannot adapt quickly enough to surviv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02" name="Picture 2" descr=""/>
          <p:cNvPicPr/>
          <p:nvPr/>
        </p:nvPicPr>
        <p:blipFill>
          <a:blip r:embed="rId2"/>
          <a:stretch/>
        </p:blipFill>
        <p:spPr>
          <a:xfrm>
            <a:off x="4419720" y="1981080"/>
            <a:ext cx="453060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Title 1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 txBox="1"/>
          <p:nvPr/>
        </p:nvSpPr>
        <p:spPr>
          <a:xfrm>
            <a:off x="457200" y="1523880"/>
            <a:ext cx="40593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59200" indent="-2592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roughout history numerous species of organism have gone extinc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ome scientists estimate that 99.9%  of all species have ever lived on earth is extinc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Average species lives for 2 to 10 million year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05" name="Picture 2" descr=""/>
          <p:cNvPicPr/>
          <p:nvPr/>
        </p:nvPicPr>
        <p:blipFill>
          <a:blip r:embed="rId2"/>
          <a:stretch/>
        </p:blipFill>
        <p:spPr>
          <a:xfrm>
            <a:off x="4343400" y="2514600"/>
            <a:ext cx="441972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Title 1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  <p:sp>
        <p:nvSpPr>
          <p:cNvPr id="307" name=""/>
          <p:cNvSpPr txBox="1"/>
          <p:nvPr/>
        </p:nvSpPr>
        <p:spPr>
          <a:xfrm>
            <a:off x="457200" y="1523880"/>
            <a:ext cx="40593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Increase in temp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Increase or decrease in rainfal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Volcanic eruption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looding or drought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4647960" y="1523880"/>
            <a:ext cx="405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hifting land or sea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A change in food supply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A new predator or diseas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Title 1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 txBox="1"/>
          <p:nvPr/>
        </p:nvSpPr>
        <p:spPr>
          <a:xfrm>
            <a:off x="457200" y="1523880"/>
            <a:ext cx="40593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Occurs when large numbers of species die out in a short amount of time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Mass extinctions have occurred many times in Earths history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Each event has wiped out more then 50% of species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Have evidence in rock layers.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Abundant fossils suddenly disappear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11" name="Picture 2" descr=""/>
          <p:cNvPicPr/>
          <p:nvPr/>
        </p:nvPicPr>
        <p:blipFill>
          <a:blip r:embed="rId2"/>
          <a:stretch/>
        </p:blipFill>
        <p:spPr>
          <a:xfrm>
            <a:off x="4773600" y="2414520"/>
            <a:ext cx="3809880" cy="27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Brain Pop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http://www.brainpop.com/science/ourfragileenvironment/extinction/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13" name="Title 1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Pg 330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Procedure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1 make a venn diagram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2 make a list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Analyze and Conclude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1-8 answer in complete sentences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onstantia"/>
              </a:rPr>
              <a:t>Turn in procedure and analyze and conclud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15" name="Title 1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Title 1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 txBox="1"/>
          <p:nvPr/>
        </p:nvSpPr>
        <p:spPr>
          <a:xfrm>
            <a:off x="457200" y="1523880"/>
            <a:ext cx="40593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Humans evolved only about 110, 000 years ago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If humans were squeezed into a single day, humans would not evolve until he last few seconds.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59" name="Picture 2" descr=""/>
          <p:cNvPicPr/>
          <p:nvPr/>
        </p:nvPicPr>
        <p:blipFill>
          <a:blip r:embed="rId2"/>
          <a:stretch/>
        </p:blipFill>
        <p:spPr>
          <a:xfrm>
            <a:off x="4419720" y="1905120"/>
            <a:ext cx="429084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http://www.brainpop.com/science/ecologyandbehavior/humanevolution/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61" name="Title 1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Title 1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  <p:sp>
        <p:nvSpPr>
          <p:cNvPr id="263" name=""/>
          <p:cNvSpPr txBox="1"/>
          <p:nvPr/>
        </p:nvSpPr>
        <p:spPr>
          <a:xfrm>
            <a:off x="457200" y="1523880"/>
            <a:ext cx="40593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e geological time scale is like a calendar extending from earths formation to the present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e scale is divided into eons, eras, periods, and epochs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64" name="Picture 2" descr=""/>
          <p:cNvPicPr/>
          <p:nvPr/>
        </p:nvPicPr>
        <p:blipFill>
          <a:blip r:embed="rId2"/>
          <a:stretch/>
        </p:blipFill>
        <p:spPr>
          <a:xfrm>
            <a:off x="4648320" y="2124000"/>
            <a:ext cx="4059000" cy="33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Title 1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e largest group: divided by the Cambrian boundary (about 550 million years ago) when the variety of life forms explodes: billions of years long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Title 1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Mass extinctions mark the boundaries between the era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hundreds of millions of years long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Title 1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  <p:sp>
        <p:nvSpPr>
          <p:cNvPr id="270" name=""/>
          <p:cNvSpPr txBox="1"/>
          <p:nvPr/>
        </p:nvSpPr>
        <p:spPr>
          <a:xfrm>
            <a:off x="456840" y="160020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Blocks of time when a unique rock series was laid down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ens of millions of years long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Title 1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 txBox="1"/>
          <p:nvPr/>
        </p:nvSpPr>
        <p:spPr>
          <a:xfrm>
            <a:off x="4568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Divisions of the most recent period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ral millions years long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8T17:44:45Z</dcterms:created>
  <dc:creator>mswofford</dc:creator>
  <dc:description/>
  <dc:language>en-US</dc:language>
  <cp:lastModifiedBy>jcameron</cp:lastModifiedBy>
  <dcterms:modified xsi:type="dcterms:W3CDTF">2012-10-31T14:38:23Z</dcterms:modified>
  <cp:revision>55</cp:revision>
  <dc:subject/>
  <dc:title>Earths History: Rocks, Fossils, and Ice Cores</dc:title>
</cp:coreProperties>
</file>